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864-D32E-477B-BB47-D5FAD9FD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681-8835-4E26-8530-B28CB65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947-D83F-49D7-B76F-BEE7BB9F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FFA-47E8-4F4B-8552-C460EBF1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65D-8FB3-4481-A241-A0B10113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DFC-8525-410D-B6B9-B27292C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A46-5E2F-4778-B0F0-00B957A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758-A927-40CB-82EE-6AF5E2A3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0A7-18F9-4A84-88B4-48EC13F4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B8B-3864-48F2-BD23-8B09C6E1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D76-16A2-497C-8488-AAAB89C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917-FB47-4877-BC0A-3914EF93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9FB8-0637-4E2B-8E11-5FE6A878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8:58Z</dcterms:created>
  <dc:creator>CVJH-LAB</dc:creator>
  <dc:description/>
  <dc:language>en-US</dc:language>
  <cp:lastModifiedBy>CVJH-LAB</cp:lastModifiedBy>
  <dcterms:modified xsi:type="dcterms:W3CDTF">2008-02-20T17:51:40Z</dcterms:modified>
  <cp:revision>2</cp:revision>
  <dc:subject/>
  <dc:title>Slide 1</dc:title>
</cp:coreProperties>
</file>